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E6E-8502-423B-BD61-B73EAF30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806-D701-4409-8BD4-F1A15498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14A3A-8ECF-4CE4-9B0E-2429F25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63075-FEDA-4F6F-A5BA-274D3AC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0B801-AAC7-4909-BC73-99CF7A3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C117D-6997-4D53-8A76-7FF95BD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D0F2-B88F-4A8D-9962-6BC1855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CC43-7F26-406C-A7CF-E074711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52873-70C6-4743-8751-9B87B82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D608D-CBE4-4A06-AEAE-08DB65F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367E6-A86E-4D14-90A4-8952FBEC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F9DDD-3867-412F-911A-E397322B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A12-3D3E-4C12-8C81-F1D0EA08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D5F59-1115-4C61-B8FC-295A5139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70362-9B09-4143-AFE4-4770B15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D017D-8D58-4E22-8BA1-DED3B856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65299-229E-42EB-A0CF-078284F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5F82A-2ACD-4680-9DD1-DD1F6D7E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5B2BA-6DFA-4988-92E1-0F48745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9C38-2947-4B4D-B006-712220A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5FA08-267B-4819-AC20-349759B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6D54-D3B1-4436-863A-6B3E0774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7C8D-58F8-44DB-87B0-CCDC25D6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D80-D420-4B75-9E5A-A6AE68D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8143-7AB3-4314-BE6C-DF94110A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6D27-221D-46D6-A27C-56C161C0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1CEC6-1E73-4366-880B-C285FA3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70096-3966-4E08-90CC-087153B8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DFFBE-027B-4115-BB2A-92999578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47092-F400-47E5-B014-E6CE728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6F6E-2F09-4940-B0D0-0E82C00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C88E4-EB24-4902-980D-97A12D9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44E93-EEBA-4E11-835D-94B3985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022B4-62F6-4AFF-B177-37DF87E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9622-4968-4F60-AEBE-3B0274D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2D9D-7227-45C9-8D8C-7FA4F6E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6BB54-8E45-4F9F-9B57-8988B438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4FEF0-D3A9-44EE-9F9B-FFA58673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64E2A-C8EF-4BEB-A78A-81A2A853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45AFB-E7FC-4EF0-9B40-8CC0C3FC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0135C-992D-4B2E-8633-853BB0A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56711-6C0D-4CA4-BB1E-6E251402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041E5-D306-441A-9C48-7836B53A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7E742-0730-4A04-9E96-02B66FEF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75BAA-8003-42D3-B92E-77F1E8A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AF7-1493-4E2A-8561-0EDA4CEC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B5DF4-B525-4D59-AD51-4F0DAE7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A5650-AD3D-4F65-90C4-A300F50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2A83-CF3B-467E-A1A6-6900C11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22EF9-9FA4-4334-B860-A113C047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B8442-9D0B-4B24-B801-697F68B9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514E1-CABF-4C39-9C26-AFC4FCB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24465-09C3-459D-9953-87E2E36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B7D02-1A47-411B-9A04-C79992B0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BB396-67B9-4636-AC10-BADC34C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734E9-8206-464A-A3A0-441A998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ED8-A63C-4D4B-8A3D-E5C3E1E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0465D-377B-4BAE-8FC2-BF494C2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EE484-4752-484A-8AB1-169681D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A6C07-C103-4B8A-A44D-83CD671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5B200-31DA-4B7F-B5D4-8AF6AFB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54135-C7A3-491F-8C84-65F9888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19DD8-8DCA-4518-BF0C-867F0A37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B42F0-0CDC-4177-825F-7D017E75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86B8A-78E9-4EB5-BDFD-73709567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C719B-3568-4B8D-8546-7D6F0069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24A3B-9057-4C95-9096-B8FA55C0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660-931C-4D7F-BDA8-A2276782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D8644-4247-433A-8E95-E49E564A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D26FC-5AF1-4F25-A723-3122FC23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FC761-D7BA-4C06-9D50-C916B39A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D0024-B801-4D73-9653-1FD67AA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88EB8-DB5A-439B-AAF6-73CF6E3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642D8-813E-4F71-BBD9-63244E2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7744B-9563-40A2-BA58-3B4BDA8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F771B-195D-4BE9-AFF2-57E46A41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46948-0D51-411D-9935-20635727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617E4-D12A-4206-BCB0-7F4F2876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1342-6CB5-479C-8CA5-2136C822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00B00-B1C7-441F-9131-F689E12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2F731-EA56-43A8-8ECF-B3A4F66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2A05D-C3C2-4CFD-B16E-09145F2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1E79D-6127-4851-9610-19CAA40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8A9BB-69D2-4E28-985F-A3DAEB8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E5CB2-5384-4AA2-85E0-7A514D4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F53C0-C3C2-4380-BD0B-F1160CB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E90E9-2AF7-4123-93B7-EAD82DF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2AC95-542A-47BF-82A8-D6914580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C384C-7BAE-4B9E-8C7B-CF4DDD40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F92-7ECA-4929-A517-F33A1E17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0A1D9-41DA-40EA-850A-B475A3EA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59578-F3FD-474D-B2BA-3644289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93317-396E-4158-AF85-496C7F6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80518-D114-4900-84C5-E0908BD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19EC8-5937-4145-9DD9-64DE7782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C11CA-DEBB-4934-AF30-C05DC02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B46D3-D5A6-441D-A3BE-D2CA1E6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82F29-D157-49DE-9F0A-6C099DE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62F3A-EC57-45F6-9E5F-A076CBC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672E1-C27B-4725-AD24-129539B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5DCF-668E-4D58-AA37-FA693AB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669EF-A06D-4569-9C3A-BA67FA3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11CEC-DCD0-4DFC-A285-7E9581AC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329AA-DCD9-4B5F-B4B2-29E74A58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DC65C-7B35-4121-A00F-DC0D60AB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EFE94-EC33-41BB-B5AF-B3686AB1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1C4A8-A913-4A23-94EA-530AE179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08E7C-78E1-488B-A7E9-5829B4F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95A10-DDBA-4341-9E1D-9ECAF64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6C99C-311D-4CEC-8698-120E0A1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02AC2-35DC-4B7D-80F3-925E692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39E-6F81-4563-8D18-57712630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5D4-3249-4B72-ABE1-76753FA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F7AA9-A3CD-47B4-BC50-E4B0E50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43758-2B77-4C5C-9933-17761CB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39E39-B30B-4858-AA6D-F1733F9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7367A-65D4-4F5A-B46B-2F54EFE2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099D5-2CBB-49A6-B83A-92B6ACAC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0CED5-91F3-4B1A-AA49-97243BC8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529C7-A348-49BB-9AF9-811A9A2F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7B080-2059-43E7-861F-DCA107F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A35B3-1BC7-4398-ABBB-B2DB61E5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9364C-CAA0-4050-A250-C75B0D4C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1602-A609-48D5-92E9-432017F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D3504-5994-4556-B9E2-05FF993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86542-DF7B-4412-8962-A487AC3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9F4CF-3347-469A-AFBC-EACB0350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2ECF4-8D98-47E1-8031-9F7A222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8E2F7-3FD5-4E29-8581-44062ADD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049FD-A02B-427F-A200-F8F8981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FCD67-CF45-4E1A-941C-9BC1EABD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6814F-4E55-400B-BE56-37FB8717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557D5-4BB0-4D6B-ACE3-EC1937A1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3D34E-8C9C-4D0E-8675-F9BE346B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EAB-5E83-4095-8824-9B3B78E3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5E0C5-225B-42C4-936A-51A6C1EC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AE4AF-58A9-4F02-8D16-9D42871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1BC3E-55DC-4B16-B759-EDBF4C9C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0008C-0A2D-47F2-A0ED-AF1EDCE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4A0C9-DE94-4042-9F33-9E53298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88F8E-2A2E-4FA1-AD95-B96298B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13A711-B54E-4E9B-82B4-CD667C9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03880-0BD8-42BA-B98F-5520F0D8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8D7F3-600A-40BB-9C68-5F2DFEC5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F3173-5E97-411A-BD27-D1DB2442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8878-E65E-4DFC-AED6-EC85D274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5910D-571D-42DE-B80C-14CED667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B3C3F-5881-416B-9239-A8BAE6F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F1A1D-08D5-4946-A54F-0BBCB26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038BE-1D0F-4C11-8C43-9AEFAED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3B91F-B697-4123-8263-B83AC7C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0AD51-A8FE-4E7C-82D2-242CD5C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B2EF6-49D2-409A-9AEC-7AF7788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26AEE-2AEE-47AE-9C09-D88A1EB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7CA1F-DDDA-4D57-9E91-CFCABA9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33F23-76AC-4AE4-8180-FE12AC82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48C9-6FE8-4807-9248-9FA1F2BB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91916-241C-41A2-83FC-F657B70C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7F1F1-39AF-4F62-B4DF-3883182C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A2EFE-BD2C-4018-B0D9-3C5D6AF2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033A9-A302-41C1-AC55-56017B7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74154-89F8-4DF5-80FF-6AD7F53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10044-E655-4DA5-9DE7-D56AC5FE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8C495-849B-48F6-B855-1A6A2D6C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F0D3D-2236-4755-92A7-89405F3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5F763D-C30F-4EDD-B488-1373FAF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75E83-A73D-4913-912C-F843E31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268D-30A2-4635-8CC9-AA424053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CFC94-D68C-49FE-9604-D8C9A6B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ECF01-4671-416E-AD6B-476A61E9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0EA8A-9BB9-4205-B3AD-BD8FB991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6AB6-8005-4F8B-AA55-306CFD9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E67A-7745-4AFC-B27B-65D2D3D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6D94-1B32-45B1-91C7-84BA9B5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3A8D-D7E3-424E-A908-DB8ADB7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A9F-022D-43AF-B574-842C515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218A-BE6D-4079-B9A7-CD1113D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6E5C-B114-4FEA-9B86-2D88C96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90C7-AF47-42A3-914A-83EC1E3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FC1A-E716-4DCF-BB55-87C5A10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F6F3-B1BD-4D5E-8537-07239E4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318D-F3D5-4B1B-B70A-C81100CA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E3BA-F773-4E2B-8FE3-A2CB1609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081C-D59F-46E2-8A0D-AD3CEC05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912C-6DEF-4BA0-B439-867F1E19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B3A8-F82C-4E7A-8292-38A31704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4D6-6246-4DC8-96F6-3965E7A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3D36-D727-4E3A-8BB7-A7FD4D3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B376-5974-4526-B27A-DC1D3CF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037C-5D71-4D85-B11F-8E8CE56D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B28C-9AA8-4052-A282-C2F751D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E674-068F-410D-9C09-FB60D56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F48E-2AFB-496E-98F6-8EC8545F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B08D-4ACD-45AC-8BC8-F8788CD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C48D-12F6-4A7B-BB6A-6D7FB295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C261-49D5-4367-AC63-8E7F6D6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A4BE-202E-4B04-95B1-941112C6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E4D-7C39-4641-8CE6-399183B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F39E-95D8-4668-9FFA-8072402B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D252-0C7B-4244-8DA6-BFA8901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E2D0-A85B-4B25-A3D3-49B71A2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3406-3930-46CD-BF95-847AC0F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5F26-D079-47A7-99A2-F7FA28F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93F3-A88E-41A0-BDC8-152C42D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DE81-4FA0-42FD-A0AC-044336E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9BB0-0E20-46C6-B953-5944173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AA05-7F8C-47E5-A1F7-23AF4CE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F4EE-F5DF-41EC-BFBD-725ABDD9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80C-4990-4168-81F9-47A4E17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26D6-7A8F-4D24-8D12-2E8AB85F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3E10-A567-4B32-83D7-F91876BD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0FB3-2102-424B-8171-19BA6BB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EEBD6-BA7C-401B-A662-4E08331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8410-EB5D-466F-86F4-936672C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A9FE-A15F-42C7-BD2E-D3BA1937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1DE3-6683-4164-96F5-41BC4485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AD9E-363E-4E99-90FE-F1E2846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3439-274A-4764-B6CB-A306C73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40C5-8A1D-42A3-AB5D-672E3AC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804-76F0-4E05-B7EA-F55196E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492E-BA45-4D05-A6D1-88554A10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9D59-C543-4C84-9688-BB5566FF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0A78-5642-4D43-B1EA-F3E17067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448F-5B72-4089-84B8-FA6344F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BBBD4-BE6B-4393-A933-DD46B41C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E6BF-567D-4D85-8139-8AD1ED6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D5608-0083-41BC-83E0-F11B8D8C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2006-C740-4153-B895-3110D9F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CAE7-5BC4-45B2-A06A-B94268C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1D5E-309E-485A-872D-5BAE1FD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C53-DF72-418A-BB46-8114EBC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F4E7-BBAA-437E-8C8F-A60D400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1B436-26CE-40E3-86A1-9B6C6E8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5DF1-ED41-45C7-BE4A-2323E423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64E7-BC26-4DB6-8C7A-133F3177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F468-7246-46B8-A06F-6C582D96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DD21C-07BF-45ED-8096-E85B505F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343B3-499F-4ED3-8941-E464A4E3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CD0F-A0B4-49DD-B819-8410DB5F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AA92-2620-4F47-8C14-CB12E51C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E276C-96AE-4779-8BCA-867F84DA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11D-5881-4918-BB59-4B2DAFF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3BFF-2EDE-43DB-8E99-F6395C86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6DB8-0545-49CF-BE9D-7A54720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9A0B-A5FD-42E1-A9C0-C8CFBB1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A278-DF0B-45C0-8016-8E3B3D6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024A2-B5B7-4C8B-8A5C-384886E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5173-CB85-4782-A081-96EBB0F1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7B76-7239-492E-B038-B93BE95E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1893-5ACF-4E33-862E-3E2B7773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3D45F-891A-4557-95D0-21E9209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BBA20-6383-4A87-B9B1-614B8F6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504E-C7DA-499D-A026-3C8232917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B8E-277F-4C3B-B67D-A50B7B2BB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B992-936A-4B03-9771-9614AB6DB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F5F-5271-4455-9C90-AE2ACA42E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230-5B7A-49CC-BD54-A8DFBCFBA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D29-2C85-4781-B67A-F770BB20A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682-B012-4674-A79F-3DF3F3A13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8621-8B8C-49BF-899C-DE2F8DD46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1947-84B4-4142-8352-0DE6BC400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D49-A38B-43D5-8347-6422A643D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8DBF-BDB0-42D0-B4D4-0944275AA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FDE4-CD01-47DC-93F3-B14281AE8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9E2-3D5E-4862-BF8E-470AF0ECF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3C4-B5A3-47FE-B16F-7F32122F0D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6809-0775-4F8E-A9E9-03CE6EBC2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E3B9-F8FE-44FC-A448-DF1A00E54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098F-AC5D-4007-9526-7EA6B31C71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CB76-6332-4BD5-A1AF-B3021F4AD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3E0C-06AC-4925-B09B-1AA1160B1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9720-9AA0-4ABD-AA0F-BE47EE0A5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BC6F-E89E-463F-8472-ACF154AAC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28D2-BAF3-435B-8C2F-107B18C54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C54-4EB7-4CE3-ACCB-59BF563A9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5F5-58B0-47D7-830D-234E83D43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AED-9257-400F-BE7A-F32651E2C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2895-7F26-4A0B-B32E-B74D950A6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0CDF-85A7-4E5E-84C4-94456A701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10FA-FC72-4739-9E84-4B2BD877CF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399-E50B-4487-8FF1-20457415B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5E5B-B2AA-4D80-8F65-FAA40152F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DB30-8F95-4D53-8344-AE4A27A81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2C00-6B07-46E8-86C9-BD3E063F1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9DC-7689-4AA0-9617-91DFA58C15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261-BCF3-4D88-9A2F-A32D5D8FB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FF4-2E87-4739-9538-E529EAA22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23E1-9C35-4492-9F4F-5960305A2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875-AB95-44F2-B10B-786135FE4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F85-6501-44EA-B264-6DEC53C06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FBE8-651C-488D-A4BB-B32FD3CCF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E56-294C-4545-8503-726EF9D5E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33560" y="3195720"/>
            <a:ext cx="52768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6680" y="549360"/>
            <a:ext cx="8810640" cy="6210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84360" y="1585800"/>
            <a:ext cx="57492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379760" y="160956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89640" y="1628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607080" y="1628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627280" y="199872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375080" y="20080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499000" y="20080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607080" y="1998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124000" y="243036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375080" y="2421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489640" y="2421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607080" y="2421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070000" y="314172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284720" y="314172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526080" y="3141720"/>
            <a:ext cx="648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429760" y="31226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2070000" y="342900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4443480" y="34196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6535800" y="342900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8524800" y="3419640"/>
            <a:ext cx="4492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0449" descr=""/>
          <p:cNvPicPr/>
          <p:nvPr/>
        </p:nvPicPr>
        <p:blipFill>
          <a:blip r:embed="rId22"/>
          <a:stretch/>
        </p:blipFill>
        <p:spPr>
          <a:xfrm>
            <a:off x="495360" y="4048200"/>
            <a:ext cx="8458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109440" y="771480"/>
            <a:ext cx="8925120" cy="5753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835280" y="259380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419640" y="259380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5076720" y="259380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659640" y="258444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611280" y="4240080"/>
            <a:ext cx="280836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611280" y="4527720"/>
            <a:ext cx="280836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611280" y="5383080"/>
            <a:ext cx="280836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611280" y="5661000"/>
            <a:ext cx="367344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4572000" y="5373720"/>
            <a:ext cx="367344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4500720" y="5661000"/>
            <a:ext cx="36734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4500720" y="5940360"/>
            <a:ext cx="367344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4427640" y="6237360"/>
            <a:ext cx="3673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1:5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